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8629313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1142640"/>
            <a:ext cx="1428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74293-D6AD-424D-A5E6-DD63486AA9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08F48-2EF4-40A7-8B55-6BBD14B69E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0BF6F-0425-459C-8243-B0BA4605B8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F60-F113-4A70-977A-9ABD886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DD7-F506-40BC-B752-101129EC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1F4-40A6-4F82-A56F-ECCD9339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E26-4C82-41B5-999E-15C3ABA9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343-EBDA-49E5-B600-66FD18F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B1C-E505-4E17-9480-FD4B60D5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6EA-0143-4891-86CD-0C1DB973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FDA-1352-4EFD-8450-0A2D3CBB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340-AF8E-41B0-B9AB-479D976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AA3-0AB3-45F5-A64A-29B838E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2D3-79A6-4D69-8CBA-A43EE51D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A44-6C00-4205-9910-5D60BF9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088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0400" y="37289880"/>
            <a:ext cx="62881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5692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4108F-2F57-46C4-BC22-46E9DC2F9BE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90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1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92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94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96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7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9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112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26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8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32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7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7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59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0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2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3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4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66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6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8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80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7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3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200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201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213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21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 2" descr=""/>
          <p:cNvPicPr/>
          <p:nvPr/>
        </p:nvPicPr>
        <p:blipFill>
          <a:blip r:embed="rId143"/>
          <a:stretch/>
        </p:blipFill>
        <p:spPr>
          <a:xfrm>
            <a:off x="3916440" y="33490080"/>
            <a:ext cx="11795040" cy="1449360"/>
          </a:xfrm>
          <a:prstGeom prst="rect">
            <a:avLst/>
          </a:prstGeom>
          <a:ln w="0">
            <a:noFill/>
          </a:ln>
        </p:spPr>
      </p:pic>
      <p:pic>
        <p:nvPicPr>
          <p:cNvPr id="245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246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oneTexte 38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2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50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251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52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4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55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256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257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259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0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261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2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263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264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267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269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273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275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77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278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79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0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281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2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283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284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85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86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7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288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289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90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1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292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3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00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0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1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312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313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314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15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6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7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18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19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0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22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3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6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329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30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1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2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333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334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36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7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38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40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41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42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43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44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345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6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7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48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50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1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2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3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354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5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6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357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358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59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60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1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362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64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68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69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70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71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72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3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375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376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7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378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9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0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81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3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84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9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0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391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2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3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4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395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6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397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401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403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404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405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406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407" name="Image 2" descr=""/>
          <p:cNvPicPr/>
          <p:nvPr/>
        </p:nvPicPr>
        <p:blipFill>
          <a:blip r:embed="rId143"/>
          <a:stretch/>
        </p:blipFill>
        <p:spPr>
          <a:xfrm>
            <a:off x="3916440" y="33490080"/>
            <a:ext cx="11795040" cy="1449360"/>
          </a:xfrm>
          <a:prstGeom prst="rect">
            <a:avLst/>
          </a:prstGeom>
          <a:ln w="0">
            <a:noFill/>
          </a:ln>
        </p:spPr>
      </p:pic>
      <p:pic>
        <p:nvPicPr>
          <p:cNvPr id="408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409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ZoneTexte 3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50:24Z</dcterms:created>
  <dc:creator>Dominic Langevin</dc:creator>
  <dc:description/>
  <dc:language>en-US</dc:language>
  <cp:lastModifiedBy>Ducasse, Alexandre</cp:lastModifiedBy>
  <cp:lastPrinted>2018-05-15T15:13:46Z</cp:lastPrinted>
  <dcterms:modified xsi:type="dcterms:W3CDTF">2025-01-20T22:34:34Z</dcterms:modified>
  <cp:revision>104</cp:revision>
  <dc:subject/>
  <dc:title>Présentation PowerPoint</dc:title>
</cp:coreProperties>
</file>